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  <p:custShowLst>
    <p:custShow name="Arithmetic Progression" id="0">
      <p:sldLst>
        <p:sld r:id="rId16"/>
      </p:sldLst>
    </p:custShow>
    <p:custShow name="Filtered Evaluator" id="1">
      <p:sldLst>
        <p:sld r:id="rId17"/>
      </p:sldLst>
    </p:custShow>
    <p:custShow name="Sieve Eval" id="2">
      <p:sldLst>
        <p:sld r:id="rId18"/>
        <p:sld r:id="rId19"/>
        <p:sld r:id="rId20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63EF-B164-4C70-9C42-61601972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44B0-8C2A-4A3B-B08B-5BB122D6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65D-E06C-4BD2-8FB7-6DCA9D67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3A9-FEE4-498F-B43F-A007F465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A9D0-2725-43E1-AD7B-BB4CBBD7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323C-88E1-4A35-8AC6-D126F01D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E97C-328C-46D1-AE9B-9EEC3FB5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B58C-1955-43C6-A63F-BBE48365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D5F2-5F44-436A-AD5D-E8DB6764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5473-1C78-4DB2-86A6-E94826C5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96D0-0BB8-45BC-9EFC-0C80B144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5072-4660-4317-A706-57EE32B0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68CE-37EA-498F-9961-B99655EB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B14D-CE9B-47C4-A7A7-0FE9D375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6E33-25A9-4BE7-B022-A823AFEB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D24D-921F-4831-837B-86EF96B5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B905-381A-4A47-A577-17D6BD97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506-7BFA-4C06-9200-0EB4907A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088D-9802-4B87-815C-39653BA2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85B-F1B0-40B1-8800-1F79947E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E1B-7A6B-4455-BCCA-9C9AD346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7FF4-D9DF-4E7F-8E06-7BB6A8EF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0A2-11DB-4BB3-AB29-61006F78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4E1A-A899-4E13-AF80-948E5E4C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Click to edit the title text forma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EB4F-A108-42E9-A116-E5ACC11A58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Click to edit the title text forma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E135-F2D6-4ECB-84F2-FD12A39CFB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xnguyen@rice.edu" TargetMode="External"/><Relationship Id="rId2" Type="http://schemas.openxmlformats.org/officeDocument/2006/relationships/hyperlink" Target="mailto:swong@rice.ed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hyperlink" Target="..\animations\Decorator Projector.exe" TargetMode="External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Viner Hand ITC"/>
              </a:rPr>
              <a:t>Design Patterns for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8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28954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ng “Zung” Nguyen, Stephen B. Wong 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e Universit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ton, TX USA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dxnguyen@rice.edu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swong@rice.edu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438280" y="1752480"/>
            <a:ext cx="1981440" cy="381240"/>
          </a:xfrm>
          <a:prstGeom prst="wedgeRoundRectCallout">
            <a:avLst>
              <a:gd name="adj1" fmla="val 53606"/>
              <a:gd name="adj2" fmla="val 141250"/>
              <a:gd name="adj3" fmla="val 16667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 fact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11430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33200" y="2286000"/>
            <a:ext cx="9010800" cy="3457440"/>
            <a:chOff x="133200" y="2286000"/>
            <a:chExt cx="9010800" cy="345744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133200" y="2286000"/>
              <a:ext cx="9010800" cy="34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4648320" y="3048120"/>
              <a:ext cx="21524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5334120" y="2590920"/>
              <a:ext cx="32479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4648320" y="3276720"/>
              <a:ext cx="342900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648320" y="5409000"/>
              <a:ext cx="4190760" cy="307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zyNonNullState (dat Object, lazy: ALazyE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543800" y="3886200"/>
            <a:ext cx="1295280" cy="380880"/>
          </a:xfrm>
          <a:prstGeom prst="wedgeRoundRectCallout">
            <a:avLst>
              <a:gd name="adj1" fmla="val -97305"/>
              <a:gd name="adj2" fmla="val -63333"/>
              <a:gd name="adj3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5867280"/>
            <a:ext cx="1523880" cy="381240"/>
          </a:xfrm>
          <a:prstGeom prst="wedgeRoundRectCallout">
            <a:avLst>
              <a:gd name="adj1" fmla="val 37500"/>
              <a:gd name="adj2" fmla="val -229166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Deco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2438280"/>
            <a:ext cx="1371600" cy="304920"/>
          </a:xfrm>
          <a:prstGeom prst="wedgeRoundRectCallout">
            <a:avLst>
              <a:gd name="adj1" fmla="val 83101"/>
              <a:gd name="adj2" fmla="val 1697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Design Patterns for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Maxwell’s Equations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905120" y="2057400"/>
                <a:ext cx="5384520" cy="400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676520" y="1905120"/>
            <a:ext cx="5715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29000" y="2743200"/>
                <a:ext cx="223524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 txBox="1"/>
          <p:nvPr/>
        </p:nvSpPr>
        <p:spPr>
          <a:xfrm rot="19956600">
            <a:off x="2742840" y="3429000"/>
            <a:ext cx="3162240" cy="65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ithout Pattern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62120" y="1752480"/>
            <a:ext cx="339084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With Patter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 rot="21531000">
            <a:off x="4648320" y="4800240"/>
            <a:ext cx="3657600" cy="1146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Down">
              <a:avLst>
                <a:gd name="adj" fmla="val 68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0800000"/>
                </a:gradFill>
                <a:latin typeface="Impact"/>
              </a:rPr>
              <a:t>Let there be Ligh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Patterns in CS1/CS2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owlnet.rice.edu/~comp20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owlnet.rice.edu/~comp21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cs15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cs15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JavaResour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rithmetic Progress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460160"/>
            <a:ext cx="6363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ublic class LazyIncE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eger _val;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current va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  _inc;      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incremen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azyIncEval(Integer val, int in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val = val;   _inc = inc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val = new Integer (_val.intValue () + _in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3200400"/>
            <a:ext cx="3962520" cy="685800"/>
          </a:xfrm>
          <a:prstGeom prst="wedgeRectCallout">
            <a:avLst>
              <a:gd name="adj1" fmla="val -47513"/>
              <a:gd name="adj2" fmla="val 10370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ment the curre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make a new lazy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5410080"/>
            <a:ext cx="3352680" cy="762120"/>
          </a:xfrm>
          <a:prstGeom prst="wedgeRectCallout">
            <a:avLst>
              <a:gd name="adj1" fmla="val -73578"/>
              <a:gd name="adj2" fmla="val 2333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value a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9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Filter Evaluator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6" name=""/>
          <p:cNvSpPr/>
          <p:nvPr/>
        </p:nvSpPr>
        <p:spPr>
          <a:xfrm>
            <a:off x="140400" y="1522080"/>
            <a:ext cx="8814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class LazyFilterEval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eger _factor;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factor to be filtered out.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LRStruct _src; 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source for filtering out multiples of _fa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azyFilterEval (Integer f, LRStruct s)  { _factor = f;  _src = s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return makeLRS (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src = (LRStruct) _src.execute (SkipLeadMuls.Singleton, _factor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((Boolean)_src.execute (IsNull.Singleton, null)).booleanValue()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 return new LRStruct (); }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{   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src.removeFirst ());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Integer 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getFactor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{ return _factor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1752480"/>
            <a:ext cx="4952880" cy="1219320"/>
          </a:xfrm>
          <a:prstGeom prst="wedgeRectCallout">
            <a:avLst>
              <a:gd name="adj1" fmla="val -43398"/>
              <a:gd name="adj2" fmla="val 88541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ctive and base case are iden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need to create a filtered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e source li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3200400"/>
            <a:ext cx="4800600" cy="914400"/>
          </a:xfrm>
          <a:prstGeom prst="wedgeRectCallout">
            <a:avLst>
              <a:gd name="adj1" fmla="val -39486"/>
              <a:gd name="adj2" fmla="val 102777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source ends up empt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and return a new empty lis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3809880"/>
            <a:ext cx="4648320" cy="1143000"/>
          </a:xfrm>
          <a:prstGeom prst="wedgeRectCallout">
            <a:avLst>
              <a:gd name="adj1" fmla="val -39685"/>
              <a:gd name="adj2" fmla="val 74444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se remove first from the source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and return a new laz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that value as its fir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2895480"/>
            <a:ext cx="4114800" cy="914400"/>
          </a:xfrm>
          <a:prstGeom prst="wedgeRectCallout">
            <a:avLst>
              <a:gd name="adj1" fmla="val -46064"/>
              <a:gd name="adj2" fmla="val 102777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ip all leading mult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actor in the source li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7" dur="1" fill="hold"/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What is a List of Primes Anyway?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cedural:  Sieve of Erastoth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clarative: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 list with a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eve List”:  A non-null list whe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a “Sieve lis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th no multiples of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first is the next great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on-multip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08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 List of Primes 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29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zy Sieve implement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n rest is requested, a Sieve list must return a list guarante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to contain any multiples of first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Sieve evaluator needs to hold a lazy filter evalua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124640" y="1814040"/>
            <a:ext cx="7173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A Sieve list whose first element equals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is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 the list of pr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(initial list = all integ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Sieve List’s Res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178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rrent prime = filtered list’s fir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lter evaluator = a new one: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ctor = current pr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rc = rest of old filtered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turn a new lazy li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14400" y="5334120"/>
            <a:ext cx="7543800" cy="121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Top">
              <a:avLst>
                <a:gd name="adj" fmla="val 1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Arial Black"/>
              </a:rPr>
              <a:t>Guarantee:  Rest has no multiples of firs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cc33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451800" y="167544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Sieve evaluator’s nextLRS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9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4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2280" y="1674720"/>
            <a:ext cx="8344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ublic class LazySieveE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Eval lazyFilter;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to filter out multiples of pri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azySieveEval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two = new Integer (2);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first pr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RStruct src = (new LazyIncEval (two, 1)).makeLRS 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 = new LazyFilterEval (two, src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prime = (Integer)lazyFilter.nextLRS ().getFirst (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 = new LazyFilterEval (prime, lazyFilter.makeLRS 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me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zyFilter.getFactor ()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Sieve of Eratosthenes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2438280"/>
            <a:ext cx="3505320" cy="381240"/>
          </a:xfrm>
          <a:prstGeom prst="wedgeRectCallout">
            <a:avLst>
              <a:gd name="adj1" fmla="val -38495"/>
              <a:gd name="adj2" fmla="val 17333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of integers &gt;=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3886200"/>
            <a:ext cx="4876560" cy="457200"/>
          </a:xfrm>
          <a:prstGeom prst="wedgeRectCallout">
            <a:avLst>
              <a:gd name="adj1" fmla="val -44074"/>
              <a:gd name="adj2" fmla="val 219444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the next prime a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3809880"/>
            <a:ext cx="4724280" cy="762120"/>
          </a:xfrm>
          <a:prstGeom prst="wedgeRectCallout">
            <a:avLst>
              <a:gd name="adj1" fmla="val -44421"/>
              <a:gd name="adj2" fmla="val 80000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 filter strategy to filter the n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e from the old filtered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5334120"/>
            <a:ext cx="4800600" cy="457200"/>
          </a:xfrm>
          <a:prstGeom prst="wedgeRectCallout">
            <a:avLst>
              <a:gd name="adj1" fmla="val -46361"/>
              <a:gd name="adj2" fmla="val 91666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current prime as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2362320"/>
            <a:ext cx="5029200" cy="533160"/>
          </a:xfrm>
          <a:prstGeom prst="wedgeRectCallout">
            <a:avLst>
              <a:gd name="adj1" fmla="val -45013"/>
              <a:gd name="adj2" fmla="val 176189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ter out all multiples of 2 from s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3886200"/>
            <a:ext cx="2819520" cy="457200"/>
          </a:xfrm>
          <a:prstGeom prst="wedgeRectCallout">
            <a:avLst>
              <a:gd name="adj1" fmla="val -40203"/>
              <a:gd name="adj2" fmla="val 86111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 the next pr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9" dur="1" fill="hold"/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cknowledgmen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87" name=""/>
          <p:cNvSpPr/>
          <p:nvPr/>
        </p:nvSpPr>
        <p:spPr>
          <a:xfrm>
            <a:off x="1985400" y="2819520"/>
            <a:ext cx="506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ert “Corky” Cartwright, J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ce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3352680"/>
            <a:ext cx="3200400" cy="1600200"/>
          </a:xfrm>
          <a:prstGeom prst="cloudCallout">
            <a:avLst>
              <a:gd name="adj1" fmla="val -67412"/>
              <a:gd name="adj2" fmla="val 51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evalu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457200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19320" y="1676520"/>
            <a:ext cx="41907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93" y="2968"/>
                </a:moveTo>
                <a:lnTo>
                  <a:pt x="-1677" y="2968"/>
                </a:lnTo>
                <a:lnTo>
                  <a:pt x="-1677" y="25310"/>
                </a:lnTo>
                <a:lnTo>
                  <a:pt x="3794" y="32023"/>
                </a:ln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me-like Java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the Sieve of Eratosth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cid Tes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2" name=""/>
          <p:cNvSpPr/>
          <p:nvPr/>
        </p:nvSpPr>
        <p:spPr>
          <a:xfrm>
            <a:off x="264600" y="1679760"/>
            <a:ext cx="39344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45" y="5290"/>
                </a:moveTo>
                <a:lnTo>
                  <a:pt x="-463" y="5290"/>
                </a:lnTo>
                <a:lnTo>
                  <a:pt x="-463" y="23143"/>
                </a:lnTo>
                <a:lnTo>
                  <a:pt x="10840" y="41679"/>
                </a:lnTo>
              </a:path>
              <a:path w="21600" h="21600">
                <a:moveTo>
                  <a:pt x="-445" y="0"/>
                </a:moveTo>
                <a:lnTo>
                  <a:pt x="-445" y="21600"/>
                </a:lnTo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the existing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1143000"/>
            <a:ext cx="3429000" cy="990720"/>
          </a:xfrm>
          <a:prstGeom prst="cloudCallout">
            <a:avLst>
              <a:gd name="adj1" fmla="val -71759"/>
              <a:gd name="adj2" fmla="val 44388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Lazy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2246400"/>
            <a:ext cx="8001000" cy="4406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5880" y="4267080"/>
            <a:ext cx="2210040" cy="1447920"/>
          </a:xfrm>
          <a:prstGeom prst="cloudCallout">
            <a:avLst>
              <a:gd name="adj1" fmla="val 49638"/>
              <a:gd name="adj2" fmla="val -217212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p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641600"/>
            <a:ext cx="8458200" cy="4659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LRS</a:t>
            </a: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 Framework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6064560"/>
            <a:ext cx="479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morphism directs control fl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4840" y="3745440"/>
            <a:ext cx="3568680" cy="398880"/>
          </a:xfrm>
          <a:prstGeom prst="borderCallout2">
            <a:avLst>
              <a:gd name="adj1" fmla="val 18750"/>
              <a:gd name="adj2" fmla="val -8333"/>
              <a:gd name="adj3" fmla="val 27069"/>
              <a:gd name="adj4" fmla="val -4972"/>
              <a:gd name="adj5" fmla="val -61856"/>
              <a:gd name="adj6" fmla="val -5282"/>
            </a:avLst>
          </a:pr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.execute (algo, input, 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90440" y="4624920"/>
            <a:ext cx="3355200" cy="39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83" y="5847"/>
                </a:moveTo>
                <a:lnTo>
                  <a:pt x="22163" y="5847"/>
                </a:lnTo>
                <a:lnTo>
                  <a:pt x="22163" y="34268"/>
                </a:lnTo>
                <a:lnTo>
                  <a:pt x="13200" y="65969"/>
                </a:lnTo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go.nullCase (owner, inp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143000"/>
            <a:ext cx="4419720" cy="457200"/>
          </a:xfrm>
          <a:prstGeom prst="wedgeRoundRectCallout">
            <a:avLst>
              <a:gd name="adj1" fmla="val 3199"/>
              <a:gd name="adj2" fmla="val 113888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egates all requests to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4800600" cy="1458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110200" y="4050000"/>
            <a:ext cx="3809520" cy="39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31" y="5847"/>
                </a:moveTo>
                <a:lnTo>
                  <a:pt x="22641" y="5847"/>
                </a:lnTo>
                <a:lnTo>
                  <a:pt x="22641" y="-19083"/>
                </a:lnTo>
                <a:lnTo>
                  <a:pt x="15081" y="-47485"/>
                </a:lnTo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go.nonNullCase (owner, inp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1676520"/>
            <a:ext cx="3276720" cy="10666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e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3962520"/>
            <a:ext cx="2971800" cy="12952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sitor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lay computation of rest until it is needed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cept all requests involving r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ute what is needed an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nl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what ha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 ye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been evalu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Intercept request at the s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7315200" cy="942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180600">
            <a:off x="914040" y="4723920"/>
            <a:ext cx="1433520" cy="106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12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val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8915400" cy="1990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581280" y="2514600"/>
            <a:ext cx="4162680" cy="1924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971800" y="4964040"/>
            <a:ext cx="472428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48" y="2912"/>
                </a:moveTo>
                <a:lnTo>
                  <a:pt x="22725" y="2912"/>
                </a:lnTo>
                <a:lnTo>
                  <a:pt x="22725" y="-19011"/>
                </a:lnTo>
                <a:lnTo>
                  <a:pt x="21338" y="-23257"/>
                </a:lnTo>
              </a:path>
            </a:pathLst>
          </a:custGeom>
          <a:solidFill>
            <a:srgbClr val="ccffcc"/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eval(own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nnState.getRest(own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9600" y="601884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change to existing code!  No recompilation is need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04920"/>
            <a:ext cx="69343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Decorator Patter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20360" cy="2905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Evaluation Strategy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152280"/>
            <a:ext cx="388620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 Recompilation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4343400"/>
            <a:ext cx="4114800" cy="1581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876920" y="3809880"/>
            <a:ext cx="1904760" cy="2286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876920" y="3626280"/>
            <a:ext cx="3962160" cy="3231720"/>
            <a:chOff x="4876920" y="3626280"/>
            <a:chExt cx="3962160" cy="3231720"/>
          </a:xfrm>
        </p:grpSpPr>
        <p:grpSp>
          <p:nvGrpSpPr>
            <p:cNvPr id="124" name=""/>
            <p:cNvGrpSpPr/>
            <p:nvPr/>
          </p:nvGrpSpPr>
          <p:grpSpPr>
            <a:xfrm>
              <a:off x="7027560" y="4628160"/>
              <a:ext cx="1811520" cy="2229840"/>
              <a:chOff x="7027560" y="4628160"/>
              <a:chExt cx="1811520" cy="2229840"/>
            </a:xfrm>
          </p:grpSpPr>
          <p:sp>
            <p:nvSpPr>
              <p:cNvPr id="125" name=""/>
              <p:cNvSpPr/>
              <p:nvPr/>
            </p:nvSpPr>
            <p:spPr>
              <a:xfrm rot="2700000">
                <a:off x="7617240" y="4472640"/>
                <a:ext cx="304560" cy="1795320"/>
              </a:xfrm>
              <a:custGeom>
                <a:avLst/>
                <a:gdLst>
                  <a:gd name="textAreaLeft" fmla="*/ 0 w 304560"/>
                  <a:gd name="textAreaRight" fmla="*/ 109800 w 304560"/>
                  <a:gd name="textAreaTop" fmla="*/ 46800 h 1795320"/>
                  <a:gd name="textAreaBottom" fmla="*/ 1748520 h 179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7543800" y="5086440"/>
                <a:ext cx="1295280" cy="17715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SlantUp">
                  <a:avLst>
                    <a:gd name="adj" fmla="val 4623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cc"/>
                    </a:solidFill>
                    <a:latin typeface="Arial Black"/>
                  </a:rPr>
                  <a:t>strategy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cc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cc"/>
                    </a:solidFill>
                    <a:latin typeface="Arial Black"/>
                  </a:rPr>
                  <a:t>pattern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cc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76920" y="3626280"/>
              <a:ext cx="2238120" cy="2298240"/>
              <a:chOff x="4876920" y="3626280"/>
              <a:chExt cx="2238120" cy="2298240"/>
            </a:xfrm>
          </p:grpSpPr>
          <p:pic>
            <p:nvPicPr>
              <p:cNvPr id="12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876920" y="4572000"/>
                <a:ext cx="2238120" cy="135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4876920" y="3626280"/>
                <a:ext cx="1938240" cy="520200"/>
              </a:xfrm>
              <a:prstGeom prst="rect">
                <a:avLst/>
              </a:prstGeom>
              <a:solidFill>
                <a:srgbClr val="800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ffff"/>
                    </a:solidFill>
                    <a:latin typeface="Arial"/>
                  </a:rPr>
                  <a:t>-lazyEval: ALazyEv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2209680" y="5835960"/>
            <a:ext cx="47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morphism directs control fl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9840" y="586440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Run animation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5335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How do I make a Lazy Li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3200" y="2590920"/>
            <a:ext cx="9010800" cy="345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629400" y="1905120"/>
            <a:ext cx="2381400" cy="1628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648320" y="3352680"/>
            <a:ext cx="2152440" cy="219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447920" y="2590920"/>
            <a:ext cx="1981080" cy="380880"/>
          </a:xfrm>
          <a:prstGeom prst="wedgeRoundRectCallout">
            <a:avLst>
              <a:gd name="adj1" fmla="val 105527"/>
              <a:gd name="adj2" fmla="val 144583"/>
              <a:gd name="adj3" fmla="val 16667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tory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334120" y="2895480"/>
            <a:ext cx="3247920" cy="219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324480" y="1905120"/>
            <a:ext cx="1247760" cy="1400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638680" y="5781600"/>
            <a:ext cx="3248280" cy="10764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152280" y="1676520"/>
            <a:ext cx="7925040" cy="2124000"/>
            <a:chOff x="152280" y="1676520"/>
            <a:chExt cx="7925040" cy="2124000"/>
          </a:xfrm>
        </p:grpSpPr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152280" y="1676520"/>
              <a:ext cx="4476960" cy="19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8"/>
            <a:stretch/>
          </p:blipFill>
          <p:spPr>
            <a:xfrm>
              <a:off x="4648320" y="3581280"/>
              <a:ext cx="3429000" cy="2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4648320" y="5713920"/>
            <a:ext cx="4190760" cy="307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zyNonNullState (dat Object, lazy: ALazyE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457200"/>
            <a:ext cx="7620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2666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Factory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4162320" y="1143000"/>
            <a:ext cx="4981680" cy="146700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3960000" y="-1080"/>
            <a:ext cx="4969080" cy="1067760"/>
            <a:chOff x="3960000" y="-1080"/>
            <a:chExt cx="4969080" cy="1067760"/>
          </a:xfrm>
        </p:grpSpPr>
        <p:sp>
          <p:nvSpPr>
            <p:cNvPr id="148" name=""/>
            <p:cNvSpPr/>
            <p:nvPr/>
          </p:nvSpPr>
          <p:spPr>
            <a:xfrm rot="5400000">
              <a:off x="6197040" y="-609480"/>
              <a:ext cx="380880" cy="29718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c0c0c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0000" y="-1080"/>
              <a:ext cx="4969080" cy="703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ute the data, then cal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keLazyLR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to manufacture  a lazy L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191120" y="11430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38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1080" y="3124080"/>
            <a:ext cx="8962920" cy="3591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Invariant vs. Varian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62120" y="5029200"/>
            <a:ext cx="2228760" cy="99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7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Invari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62120" y="1828800"/>
            <a:ext cx="1600200" cy="83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Vari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514600" y="1371600"/>
            <a:ext cx="64864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04:35:30Z</dcterms:created>
  <dc:creator>DXN</dc:creator>
  <dc:description/>
  <dc:language>en-US</dc:language>
  <cp:lastModifiedBy>Stephen Wong</cp:lastModifiedBy>
  <cp:lastPrinted>2000-01-11T06:33:51Z</cp:lastPrinted>
  <dcterms:modified xsi:type="dcterms:W3CDTF">2004-05-29T05:55:39Z</dcterms:modified>
  <cp:revision>173</cp:revision>
  <dc:subject/>
  <dc:title>Design Patterns for Lazy Evaluation</dc:title>
</cp:coreProperties>
</file>