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3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  <p:custShowLst>
    <p:custShow name="Arithmetic Progression" id="0">
      <p:sldLst>
        <p:sld r:id="rId16"/>
      </p:sldLst>
    </p:custShow>
    <p:custShow name="Filtered Evaluator" id="1">
      <p:sldLst>
        <p:sld r:id="rId17"/>
      </p:sldLst>
    </p:custShow>
    <p:custShow name="Sieve Eval" id="2">
      <p:sldLst>
        <p:sld r:id="rId18"/>
        <p:sld r:id="rId19"/>
        <p:sld r:id="rId20"/>
        <p:sld r:id="rId2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CE69-28D9-4145-A3D1-EE7ABBFB9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A158-C068-4CFD-AC66-71E94E79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4DE8-E539-4F6C-B5CB-19F6B37E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D062-DE37-47C1-BDA7-A8A7CEA1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12FD-4473-4381-A57C-6BAC786BB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565C-6DFD-4BDB-98C5-7A4D1BAC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C902-1F21-4A05-B37F-C5639325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300B-CE1D-40A8-A630-17F64F04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4A62-9094-4E87-80AD-4F36E9A7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8096-3B09-4A58-A05F-304FE22D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C662-B481-458F-9B02-F26C102A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361E-2ECC-4113-A21B-84B7A175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307C-9067-4449-B3A7-2D5CD16F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D150-0AA0-4CE6-A9B7-3A59F86D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DA04-7FDE-4804-BA56-D8DD23BE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32CA-15D8-4C1E-8D70-3D84D63E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78BA-B0CA-4AAD-9D53-ECDBACAE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D8AA-148C-4EF8-B401-899283CA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8281-7809-4722-B86E-10FD95ED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E495-3456-4CCE-8690-F01D8DAA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4DC3-8D5D-4C7A-9BE7-18B4A7B7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3C67-D905-476F-91FD-FCA3F922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19E3-4DF8-42A7-8E4E-82FCB4BD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A2BA-AA37-4F30-82AC-4668E3BD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Click to edit the title text forma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DC5A-75F9-42A7-BC05-5724ADD696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Click to edit the title text forma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F3F3-A77B-4477-90CE-B7D37ED91A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xnguyen@rice.edu" TargetMode="External"/><Relationship Id="rId2" Type="http://schemas.openxmlformats.org/officeDocument/2006/relationships/hyperlink" Target="mailto:swong@rice.edu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hyperlink" Target="..\animations\Decorator Projector.exe" TargetMode="External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Viner Hand ITC"/>
              </a:rPr>
              <a:t>Design Patterns for</a:t>
            </a:r>
            <a:br>
              <a:rPr sz="4800"/>
            </a:br>
            <a:r>
              <a:rPr b="1" lang="en-US" sz="4800" spc="-1" strike="noStrike">
                <a:solidFill>
                  <a:srgbClr val="0000cc"/>
                </a:solidFill>
                <a:latin typeface="Viner Hand ITC"/>
              </a:rPr>
              <a:t>Lazy Evaluation</a:t>
            </a:r>
            <a:endParaRPr b="1" lang="en-US" sz="48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28954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ng “Zung” Nguyen, Stephen B. Wong 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ce Universit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ton, TX USA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dxnguyen@rice.edu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</a:t>
            </a:r>
            <a:r>
              <a:rPr b="1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2"/>
              </a:rPr>
              <a:t>swong@rice.edu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438280" y="1752480"/>
            <a:ext cx="1981440" cy="381240"/>
          </a:xfrm>
          <a:prstGeom prst="wedgeRoundRectCallout">
            <a:avLst>
              <a:gd name="adj1" fmla="val 53606"/>
              <a:gd name="adj2" fmla="val 141250"/>
              <a:gd name="adj3" fmla="val 16667"/>
            </a:avLst>
          </a:prstGeom>
          <a:solidFill>
            <a:srgbClr val="66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stract facto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91120" y="114300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11430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11430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33200" y="2286000"/>
            <a:ext cx="9010800" cy="3457440"/>
            <a:chOff x="133200" y="2286000"/>
            <a:chExt cx="9010800" cy="345744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133200" y="2286000"/>
              <a:ext cx="9010800" cy="34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4648320" y="3048120"/>
              <a:ext cx="21524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3"/>
            <a:stretch/>
          </p:blipFill>
          <p:spPr>
            <a:xfrm>
              <a:off x="5334120" y="2590920"/>
              <a:ext cx="32479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4"/>
            <a:stretch/>
          </p:blipFill>
          <p:spPr>
            <a:xfrm>
              <a:off x="4648320" y="3276720"/>
              <a:ext cx="3429000" cy="2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648320" y="5409000"/>
              <a:ext cx="4190760" cy="3070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azyNonNullState (dat Object, lazy: ALazyEv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543800" y="3886200"/>
            <a:ext cx="1295280" cy="380880"/>
          </a:xfrm>
          <a:prstGeom prst="wedgeRoundRectCallout">
            <a:avLst>
              <a:gd name="adj1" fmla="val -97305"/>
              <a:gd name="adj2" fmla="val -63333"/>
              <a:gd name="adj3" fmla="val 16667"/>
            </a:avLst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71800" y="5867280"/>
            <a:ext cx="1523880" cy="381240"/>
          </a:xfrm>
          <a:prstGeom prst="wedgeRoundRectCallout">
            <a:avLst>
              <a:gd name="adj1" fmla="val 37500"/>
              <a:gd name="adj2" fmla="val -229166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Deco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2438280"/>
            <a:ext cx="1371600" cy="304920"/>
          </a:xfrm>
          <a:prstGeom prst="wedgeRoundRectCallout">
            <a:avLst>
              <a:gd name="adj1" fmla="val 83101"/>
              <a:gd name="adj2" fmla="val 1697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Design Patterns for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Lazy Evaluation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Maxwell’s Equations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905120" y="2057400"/>
                <a:ext cx="5384520" cy="400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ρ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e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1676520" y="1905120"/>
            <a:ext cx="57150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429000" y="2743200"/>
                <a:ext cx="223524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ρ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 txBox="1"/>
          <p:nvPr/>
        </p:nvSpPr>
        <p:spPr>
          <a:xfrm rot="19956600">
            <a:off x="2742840" y="3429000"/>
            <a:ext cx="3162240" cy="657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ithout Pattern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62120" y="1752480"/>
            <a:ext cx="339084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With Patter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 rot="21531000">
            <a:off x="4648320" y="4800240"/>
            <a:ext cx="3657600" cy="1146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Down">
              <a:avLst>
                <a:gd name="adj" fmla="val 688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10800000"/>
                </a:gradFill>
                <a:latin typeface="Impact"/>
              </a:rPr>
              <a:t>Let there be Ligh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Patterns in CS1/CS2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owlnet.rice.edu/~comp201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owlnet.rice.edu/~comp212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exciton.cs.rice.edu/cs15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exciton.cs.rice.edu/cs151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exciton.cs.rice.edu/JavaResourc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Arithmetic Progression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1460160"/>
            <a:ext cx="6363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ublic class LazyIncEv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xtends ALazyEval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Integer _val; 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current val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int  _inc;       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increment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LazyIncEval(Integer val, int inc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val = val;   _inc = inc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final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extLRS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val = new Integer (_val.intValue () + _in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_va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final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akeLRS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_va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29200" y="3200400"/>
            <a:ext cx="3962520" cy="685800"/>
          </a:xfrm>
          <a:prstGeom prst="wedgeRectCallout">
            <a:avLst>
              <a:gd name="adj1" fmla="val -47513"/>
              <a:gd name="adj2" fmla="val 103703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ment the curre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make a new lazy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62720" y="5410080"/>
            <a:ext cx="3352680" cy="762120"/>
          </a:xfrm>
          <a:prstGeom prst="wedgeRectCallout">
            <a:avLst>
              <a:gd name="adj1" fmla="val -73578"/>
              <a:gd name="adj2" fmla="val 23333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list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value as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9" dur="1" fill="hold"/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Lazy Filter Evaluator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86" name=""/>
          <p:cNvSpPr/>
          <p:nvPr/>
        </p:nvSpPr>
        <p:spPr>
          <a:xfrm>
            <a:off x="140400" y="1522080"/>
            <a:ext cx="8814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class LazyFilterEval extends ALazyEval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Integer _factor; 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factor to be filtered out.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LRStruct _src;  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source for filtering out multiples of _fa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azyFilterEval (Integer f, LRStruct s)  { _factor = f;  _src = s;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extLRS 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 return makeLRS (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akeLRS 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src = (LRStruct) _src.execute (SkipLeadMuls.Singleton, _factor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(((Boolean)_src.execute (IsNull.Singleton, null)).booleanValue()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  return new LRStruct (); }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 {   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_src.removeFirst ());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final Integer 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getFactor 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{ return _factor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62520" y="1752480"/>
            <a:ext cx="4952880" cy="1219320"/>
          </a:xfrm>
          <a:prstGeom prst="wedgeRectCallout">
            <a:avLst>
              <a:gd name="adj1" fmla="val -43398"/>
              <a:gd name="adj2" fmla="val 88541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uctive and base case are ident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th need to create a filtered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the source lis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14800" y="3200400"/>
            <a:ext cx="4800600" cy="914400"/>
          </a:xfrm>
          <a:prstGeom prst="wedgeRectCallout">
            <a:avLst>
              <a:gd name="adj1" fmla="val -39486"/>
              <a:gd name="adj2" fmla="val 102777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source ends up empt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te and return a new empty lis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67080" y="3809880"/>
            <a:ext cx="4648320" cy="1143000"/>
          </a:xfrm>
          <a:prstGeom prst="wedgeRectCallout">
            <a:avLst>
              <a:gd name="adj1" fmla="val -39685"/>
              <a:gd name="adj2" fmla="val 74444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se remove first from the source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te and return a new laz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 that value as its firs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2895480"/>
            <a:ext cx="4114800" cy="914400"/>
          </a:xfrm>
          <a:prstGeom prst="wedgeRectCallout">
            <a:avLst>
              <a:gd name="adj1" fmla="val -46064"/>
              <a:gd name="adj2" fmla="val 102777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kip all leading mult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factor in the source lis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77" dur="1" fill="hold"/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What is a List of Primes Anyway?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cedural:  Sieve of Erastothe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clarative: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 list with a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irst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33cc33"/>
                </a:solidFill>
                <a:latin typeface="Tahoma"/>
              </a:rPr>
              <a:t>res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eve List”:  A non-null list wher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is an inte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Tahoma"/>
              </a:rPr>
              <a:t>res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is a “Sieve list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th no multiples of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ahoma"/>
              </a:rPr>
              <a:t>re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first is the next greate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non-multip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fir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08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A List of Primes 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29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zy Sieve implementa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en rest is requested, a Sieve list must return a list guarante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to contain any multiples of first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Sieve evaluator needs to hold a lazy filter evaluat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1124640" y="1814040"/>
            <a:ext cx="7173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A Sieve list whose first element equals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is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 the list of pri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(initial list = all integ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Sieve List’s Res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1788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urrent prime = filtered list’s firs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lter evaluator = a new one: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ctor = current pr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rc = rest of old filtered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turn a new lazy lis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14400" y="5334120"/>
            <a:ext cx="7543800" cy="1218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Top">
              <a:avLst>
                <a:gd name="adj" fmla="val 16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cc3300"/>
                    </a:gs>
                  </a:gsLst>
                  <a:lin ang="5400000"/>
                </a:gradFill>
                <a:latin typeface="Arial Black"/>
              </a:rPr>
              <a:t>Guarantee:  Rest has no multiples of firs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cc33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451800" y="1675440"/>
            <a:ext cx="61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Sieve evaluator’s nextLRS shou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9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4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9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4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2280" y="1674720"/>
            <a:ext cx="8344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ublic class LazySieveEv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xtends ALazyEval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zyFilterEval lazyFilter;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to filter out multiples of pri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LazySieveEval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two = new Integer (2);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// first pr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RStruct src = (new LazyIncEval (two, 1)).makeLRS 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zyFilter = new LazyFilterEval (two, src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extLRS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prime = (Integer)lazyFilter.nextLRS ().getFirst (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zyFilter = new LazyFilterEval (prime, lazyFilter.makeLRS 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prime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akeLRS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azyFilter.getFactor ()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Sieve of Eratosthenes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2438280"/>
            <a:ext cx="3505320" cy="381240"/>
          </a:xfrm>
          <a:prstGeom prst="wedgeRectCallout">
            <a:avLst>
              <a:gd name="adj1" fmla="val -38495"/>
              <a:gd name="adj2" fmla="val 173333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list of integers &gt;=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3886200"/>
            <a:ext cx="4876560" cy="457200"/>
          </a:xfrm>
          <a:prstGeom prst="wedgeRectCallout">
            <a:avLst>
              <a:gd name="adj1" fmla="val -44074"/>
              <a:gd name="adj2" fmla="val 219444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list with the next prime as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3809880"/>
            <a:ext cx="4724280" cy="762120"/>
          </a:xfrm>
          <a:prstGeom prst="wedgeRectCallout">
            <a:avLst>
              <a:gd name="adj1" fmla="val -44421"/>
              <a:gd name="adj2" fmla="val 80000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 filter strategy to filter the nex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me from the old filtered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5334120"/>
            <a:ext cx="4800600" cy="457200"/>
          </a:xfrm>
          <a:prstGeom prst="wedgeRectCallout">
            <a:avLst>
              <a:gd name="adj1" fmla="val -46361"/>
              <a:gd name="adj2" fmla="val 91666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list with current prime as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2362320"/>
            <a:ext cx="5029200" cy="533160"/>
          </a:xfrm>
          <a:prstGeom prst="wedgeRectCallout">
            <a:avLst>
              <a:gd name="adj1" fmla="val -45013"/>
              <a:gd name="adj2" fmla="val 176189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ter out all multiples of 2 from sr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5880" y="3886200"/>
            <a:ext cx="2819520" cy="457200"/>
          </a:xfrm>
          <a:prstGeom prst="wedgeRectCallout">
            <a:avLst>
              <a:gd name="adj1" fmla="val -40203"/>
              <a:gd name="adj2" fmla="val 86111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t the next pr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19" dur="1" fill="hold"/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Acknowledgmen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87" name=""/>
          <p:cNvSpPr/>
          <p:nvPr/>
        </p:nvSpPr>
        <p:spPr>
          <a:xfrm>
            <a:off x="1985400" y="2819520"/>
            <a:ext cx="506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bert “Corky” Cartwright, J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ce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3352680"/>
            <a:ext cx="3200400" cy="1600200"/>
          </a:xfrm>
          <a:prstGeom prst="cloudCallout">
            <a:avLst>
              <a:gd name="adj1" fmla="val -67412"/>
              <a:gd name="adj2" fmla="val 515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evalua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895480" y="457200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219320" y="1676520"/>
            <a:ext cx="4190760" cy="82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93" y="2968"/>
                </a:moveTo>
                <a:lnTo>
                  <a:pt x="-1677" y="2968"/>
                </a:lnTo>
                <a:lnTo>
                  <a:pt x="-1677" y="25310"/>
                </a:lnTo>
                <a:lnTo>
                  <a:pt x="3794" y="32023"/>
                </a:ln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eme-like Java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the Sieve of Eratosth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Acid Tes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92" name=""/>
          <p:cNvSpPr/>
          <p:nvPr/>
        </p:nvSpPr>
        <p:spPr>
          <a:xfrm>
            <a:off x="264600" y="1679760"/>
            <a:ext cx="393444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45" y="5290"/>
                </a:moveTo>
                <a:lnTo>
                  <a:pt x="-463" y="5290"/>
                </a:lnTo>
                <a:lnTo>
                  <a:pt x="-463" y="23143"/>
                </a:lnTo>
                <a:lnTo>
                  <a:pt x="10840" y="41679"/>
                </a:lnTo>
              </a:path>
              <a:path w="21600" h="21600">
                <a:moveTo>
                  <a:pt x="-445" y="0"/>
                </a:moveTo>
                <a:lnTo>
                  <a:pt x="-445" y="21600"/>
                </a:lnTo>
              </a:path>
            </a:pathLst>
          </a:cu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e the existing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1143000"/>
            <a:ext cx="3429000" cy="990720"/>
          </a:xfrm>
          <a:prstGeom prst="cloudCallout">
            <a:avLst>
              <a:gd name="adj1" fmla="val -71759"/>
              <a:gd name="adj2" fmla="val 44388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Lazy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880" y="2246400"/>
            <a:ext cx="8001000" cy="4406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95880" y="4267080"/>
            <a:ext cx="2210040" cy="1447920"/>
          </a:xfrm>
          <a:prstGeom prst="cloudCallout">
            <a:avLst>
              <a:gd name="adj1" fmla="val 49638"/>
              <a:gd name="adj2" fmla="val -217212"/>
            </a:avLst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omp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1641600"/>
            <a:ext cx="8458200" cy="46591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LRS</a:t>
            </a: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 Framework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6064560"/>
            <a:ext cx="479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lymorphism directs control flow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4840" y="3745440"/>
            <a:ext cx="3568680" cy="398880"/>
          </a:xfrm>
          <a:prstGeom prst="borderCallout2">
            <a:avLst>
              <a:gd name="adj1" fmla="val 18750"/>
              <a:gd name="adj2" fmla="val -8333"/>
              <a:gd name="adj3" fmla="val 27069"/>
              <a:gd name="adj4" fmla="val -4972"/>
              <a:gd name="adj5" fmla="val -61856"/>
              <a:gd name="adj6" fmla="val -5282"/>
            </a:avLst>
          </a:prstGeom>
          <a:solidFill>
            <a:srgbClr val="00ff00">
              <a:alpha val="50000"/>
            </a:srgbClr>
          </a:solidFill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e.execute (algo, input, thi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90440" y="4624920"/>
            <a:ext cx="3355200" cy="39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83" y="5847"/>
                </a:moveTo>
                <a:lnTo>
                  <a:pt x="22163" y="5847"/>
                </a:lnTo>
                <a:lnTo>
                  <a:pt x="22163" y="34268"/>
                </a:lnTo>
                <a:lnTo>
                  <a:pt x="13200" y="65969"/>
                </a:lnTo>
              </a:path>
            </a:pathLst>
          </a:custGeom>
          <a:solidFill>
            <a:srgbClr val="00ff00">
              <a:alpha val="50000"/>
            </a:srgbClr>
          </a:solidFill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go.nullCase (owner, inpu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143000"/>
            <a:ext cx="4419720" cy="457200"/>
          </a:xfrm>
          <a:prstGeom prst="wedgeRoundRectCallout">
            <a:avLst>
              <a:gd name="adj1" fmla="val 3199"/>
              <a:gd name="adj2" fmla="val 113888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legates all requests to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114800" y="1676520"/>
            <a:ext cx="4800600" cy="1458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110200" y="4050000"/>
            <a:ext cx="3809520" cy="39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31" y="5847"/>
                </a:moveTo>
                <a:lnTo>
                  <a:pt x="22641" y="5847"/>
                </a:lnTo>
                <a:lnTo>
                  <a:pt x="22641" y="-19083"/>
                </a:lnTo>
                <a:lnTo>
                  <a:pt x="15081" y="-47485"/>
                </a:lnTo>
              </a:path>
            </a:pathLst>
          </a:custGeom>
          <a:solidFill>
            <a:srgbClr val="00ff00">
              <a:alpha val="50000"/>
            </a:srgbClr>
          </a:solidFill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go.nonNullCase (owner, inpu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1676520"/>
            <a:ext cx="3276720" cy="106668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e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3962520"/>
            <a:ext cx="2971800" cy="129528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sitor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Lazy Evaluation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lay computation of rest until it is needed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cept all requests involving re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pute what is needed and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only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what ha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ot ye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been evalu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Intercept request at the st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7315200" cy="942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 rot="180600">
            <a:off x="914040" y="4723920"/>
            <a:ext cx="1433520" cy="106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12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val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28600" y="2514600"/>
            <a:ext cx="8915400" cy="1990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581280" y="2514600"/>
            <a:ext cx="4162680" cy="1924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971800" y="4964040"/>
            <a:ext cx="4724280" cy="82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948" y="2912"/>
                </a:moveTo>
                <a:lnTo>
                  <a:pt x="22725" y="2912"/>
                </a:lnTo>
                <a:lnTo>
                  <a:pt x="22725" y="-19011"/>
                </a:lnTo>
                <a:lnTo>
                  <a:pt x="21338" y="-23257"/>
                </a:lnTo>
              </a:path>
            </a:pathLst>
          </a:custGeom>
          <a:solidFill>
            <a:srgbClr val="ccffcc"/>
          </a:solidFill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eval(own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nnState.getRest(own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9600" y="6018840"/>
            <a:ext cx="75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change to existing code!  No recompilation is need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304920"/>
            <a:ext cx="693432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Decorator Pattern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8820360" cy="29052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76720" y="22824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Evaluation Strategy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680" y="152280"/>
            <a:ext cx="3886200" cy="381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79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 Recompilation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205740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4343400"/>
            <a:ext cx="4114800" cy="1581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876920" y="3809880"/>
            <a:ext cx="1904760" cy="2286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876920" y="3626280"/>
            <a:ext cx="3962160" cy="3231720"/>
            <a:chOff x="4876920" y="3626280"/>
            <a:chExt cx="3962160" cy="3231720"/>
          </a:xfrm>
        </p:grpSpPr>
        <p:grpSp>
          <p:nvGrpSpPr>
            <p:cNvPr id="124" name=""/>
            <p:cNvGrpSpPr/>
            <p:nvPr/>
          </p:nvGrpSpPr>
          <p:grpSpPr>
            <a:xfrm>
              <a:off x="7027560" y="4628160"/>
              <a:ext cx="1811520" cy="2229840"/>
              <a:chOff x="7027560" y="4628160"/>
              <a:chExt cx="1811520" cy="2229840"/>
            </a:xfrm>
          </p:grpSpPr>
          <p:sp>
            <p:nvSpPr>
              <p:cNvPr id="125" name=""/>
              <p:cNvSpPr/>
              <p:nvPr/>
            </p:nvSpPr>
            <p:spPr>
              <a:xfrm rot="2700000">
                <a:off x="7617240" y="4472640"/>
                <a:ext cx="304560" cy="1795320"/>
              </a:xfrm>
              <a:custGeom>
                <a:avLst/>
                <a:gdLst>
                  <a:gd name="textAreaLeft" fmla="*/ 0 w 304560"/>
                  <a:gd name="textAreaRight" fmla="*/ 109800 w 304560"/>
                  <a:gd name="textAreaTop" fmla="*/ 46800 h 1795320"/>
                  <a:gd name="textAreaBottom" fmla="*/ 1748520 h 1795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 txBox="1"/>
              <p:nvPr/>
            </p:nvSpPr>
            <p:spPr>
              <a:xfrm>
                <a:off x="7543800" y="5086440"/>
                <a:ext cx="1295280" cy="17715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SlantUp">
                  <a:avLst>
                    <a:gd name="adj" fmla="val 46236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cc"/>
                    </a:solidFill>
                    <a:latin typeface="Arial Black"/>
                  </a:rPr>
                  <a:t>strategy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cc"/>
                  </a:solidFill>
                  <a:latin typeface="Arial Black"/>
                  <a:ea typeface="Arial Black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cc"/>
                    </a:solidFill>
                    <a:latin typeface="Arial Black"/>
                  </a:rPr>
                  <a:t>pattern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cc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876920" y="3626280"/>
              <a:ext cx="2238120" cy="2298240"/>
              <a:chOff x="4876920" y="3626280"/>
              <a:chExt cx="2238120" cy="2298240"/>
            </a:xfrm>
          </p:grpSpPr>
          <p:pic>
            <p:nvPicPr>
              <p:cNvPr id="12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876920" y="4572000"/>
                <a:ext cx="2238120" cy="135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4876920" y="3626280"/>
                <a:ext cx="1938240" cy="520200"/>
              </a:xfrm>
              <a:prstGeom prst="rect">
                <a:avLst/>
              </a:prstGeom>
              <a:solidFill>
                <a:srgbClr val="800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66ffff"/>
                    </a:solidFill>
                    <a:latin typeface="Arial"/>
                  </a:rPr>
                  <a:t>-lazyEval: ALazyEv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2209680" y="5835960"/>
            <a:ext cx="479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lymorphism directs control flow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9840" y="586440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Times New Roman"/>
              </a:rPr>
              <a:t>Run animation`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7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3520" y="533520"/>
            <a:ext cx="761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How do I make a Lazy Lis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3200" y="2590920"/>
            <a:ext cx="9010800" cy="3457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629400" y="1905120"/>
            <a:ext cx="2381400" cy="1628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648320" y="3352680"/>
            <a:ext cx="2152440" cy="219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447920" y="2590920"/>
            <a:ext cx="1981080" cy="380880"/>
          </a:xfrm>
          <a:prstGeom prst="wedgeRoundRectCallout">
            <a:avLst>
              <a:gd name="adj1" fmla="val 105527"/>
              <a:gd name="adj2" fmla="val 144583"/>
              <a:gd name="adj3" fmla="val 16667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ctory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5334120" y="2895480"/>
            <a:ext cx="3247920" cy="219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6324480" y="1905120"/>
            <a:ext cx="1247760" cy="1400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5638680" y="5781600"/>
            <a:ext cx="3248280" cy="107640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152280" y="1676520"/>
            <a:ext cx="7925040" cy="2124000"/>
            <a:chOff x="152280" y="1676520"/>
            <a:chExt cx="7925040" cy="2124000"/>
          </a:xfrm>
        </p:grpSpPr>
        <p:pic>
          <p:nvPicPr>
            <p:cNvPr id="141" name="" descr=""/>
            <p:cNvPicPr/>
            <p:nvPr/>
          </p:nvPicPr>
          <p:blipFill>
            <a:blip r:embed="rId7"/>
            <a:stretch/>
          </p:blipFill>
          <p:spPr>
            <a:xfrm>
              <a:off x="152280" y="1676520"/>
              <a:ext cx="4476960" cy="19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8"/>
            <a:stretch/>
          </p:blipFill>
          <p:spPr>
            <a:xfrm>
              <a:off x="4648320" y="3581280"/>
              <a:ext cx="3429000" cy="21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"/>
          <p:cNvSpPr/>
          <p:nvPr/>
        </p:nvSpPr>
        <p:spPr>
          <a:xfrm>
            <a:off x="4648320" y="5713920"/>
            <a:ext cx="4190760" cy="3070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zyNonNullState (dat Object, lazy: ALazyE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457200"/>
            <a:ext cx="7620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2666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Factory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>
            <a:off x="4162320" y="1143000"/>
            <a:ext cx="4981680" cy="146700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3960000" y="-1080"/>
            <a:ext cx="4969080" cy="1067760"/>
            <a:chOff x="3960000" y="-1080"/>
            <a:chExt cx="4969080" cy="1067760"/>
          </a:xfrm>
        </p:grpSpPr>
        <p:sp>
          <p:nvSpPr>
            <p:cNvPr id="148" name=""/>
            <p:cNvSpPr/>
            <p:nvPr/>
          </p:nvSpPr>
          <p:spPr>
            <a:xfrm rot="5400000">
              <a:off x="6197040" y="-609480"/>
              <a:ext cx="380880" cy="297180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c0c0c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60000" y="-1080"/>
              <a:ext cx="4969080" cy="703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pute the data, then cal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makeLazyLRS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to manufacture  a lazy L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4191120" y="114300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15000" y="11430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43800" y="11430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81080" y="3124080"/>
            <a:ext cx="8962920" cy="3591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Invariant vs. Varian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62120" y="5029200"/>
            <a:ext cx="2228760" cy="992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7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Invaria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62120" y="1828800"/>
            <a:ext cx="1600200" cy="831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Varia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2514600" y="1371600"/>
            <a:ext cx="648648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04:35:30Z</dcterms:created>
  <dc:creator>DXN</dc:creator>
  <dc:description/>
  <dc:language>en-US</dc:language>
  <cp:lastModifiedBy>Stephen Wong</cp:lastModifiedBy>
  <cp:lastPrinted>2000-01-11T06:33:51Z</cp:lastPrinted>
  <dcterms:modified xsi:type="dcterms:W3CDTF">2004-05-29T05:55:39Z</dcterms:modified>
  <cp:revision>173</cp:revision>
  <dc:subject/>
  <dc:title>Design Patterns for Lazy Evaluation</dc:title>
</cp:coreProperties>
</file>