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Arithmetic Progression" id="0">
      <p:sldLst>
        <p:sld r:id="rId16"/>
      </p:sldLst>
    </p:custShow>
    <p:custShow name="Filtered Evaluator" id="1">
      <p:sldLst>
        <p:sld r:id="rId17"/>
      </p:sldLst>
    </p:custShow>
    <p:custShow name="Sieve Eval" id="2">
      <p:sldLst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489-C194-4536-AC16-3C23B8B8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2A5-5E7C-4D50-8F84-71F2DD3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7D9-33F1-4571-A6C0-3731BAC0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F94-BA71-41E6-A6E3-7ECB6A65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E3CF-8D82-4672-86BE-2D9ECFDE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0F27-0E0B-49DD-AC35-BC067F1D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1532-E88A-48F4-BD25-CD6D4267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C475-207D-40DE-8644-1A9231AB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ECD1-59AD-4154-859D-3F5D9165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21FD-3079-4E48-9996-01F0F613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09BA-7F00-4A7D-A37E-1294F0E0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535-817D-43F9-99DE-2415B528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AEBD-318B-4F41-BA7E-3D58AA9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7914-C28F-4F19-8A50-97396664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B86E-3528-468B-B90F-3C6D49FF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6430-C875-469C-A77D-5E6743AD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E7D5-62E6-48FD-BB68-D9E783AD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88C-C25A-4136-A81D-7F81E937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439-0B76-43ED-9CC1-E0484F40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368-2254-4261-9581-5E99C66A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4DF-A5A0-4E47-8091-FF928CC1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E9A-755F-43EB-9BB9-7F404518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FB8-6BE9-4DAD-AC1C-054B2C7E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47E-3ED8-4ACF-A272-B20958B7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9433-48AF-43C5-B88F-077BF12938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Click to edit the title text forma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465E-9560-40DC-B5E3-C63B5D4E34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xnguyen@rice.edu" TargetMode="External"/><Relationship Id="rId2" Type="http://schemas.openxmlformats.org/officeDocument/2006/relationships/hyperlink" Target="mailto:swong@rice.edu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..\animations\Decorator Projector.exe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Design Patterns for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8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ng “Zung” Nguyen, Stephen B. Wong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ton, TX US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dxnguyen@rice.ed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swong@rice.edu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438280" y="1752480"/>
            <a:ext cx="1981440" cy="381240"/>
          </a:xfrm>
          <a:prstGeom prst="wedgeRoundRectCallout">
            <a:avLst>
              <a:gd name="adj1" fmla="val 53606"/>
              <a:gd name="adj2" fmla="val 141250"/>
              <a:gd name="adj3" fmla="val 16667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3200" y="2286000"/>
            <a:ext cx="9010800" cy="3457440"/>
            <a:chOff x="133200" y="2286000"/>
            <a:chExt cx="9010800" cy="34574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33200" y="2286000"/>
              <a:ext cx="9010800" cy="34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21524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5334120" y="2590920"/>
              <a:ext cx="32479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4648320" y="3276720"/>
              <a:ext cx="3429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648320" y="5409000"/>
              <a:ext cx="4190760" cy="307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zyNonNullState (dat Object, lazy: ALazyE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543800" y="3886200"/>
            <a:ext cx="1295280" cy="380880"/>
          </a:xfrm>
          <a:prstGeom prst="wedgeRoundRectCallout">
            <a:avLst>
              <a:gd name="adj1" fmla="val -97305"/>
              <a:gd name="adj2" fmla="val -63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867280"/>
            <a:ext cx="1523880" cy="381240"/>
          </a:xfrm>
          <a:prstGeom prst="wedgeRoundRectCallout">
            <a:avLst>
              <a:gd name="adj1" fmla="val 37500"/>
              <a:gd name="adj2" fmla="val -22916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eco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438280"/>
            <a:ext cx="1371600" cy="304920"/>
          </a:xfrm>
          <a:prstGeom prst="wedgeRoundRectCallout">
            <a:avLst>
              <a:gd name="adj1" fmla="val 83101"/>
              <a:gd name="adj2" fmla="val 1697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sign Patterns for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Maxwell’s Equation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2057400"/>
                <a:ext cx="5384520" cy="400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^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676520" y="1905120"/>
            <a:ext cx="5715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2743200"/>
                <a:ext cx="223524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∇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 rot="19956600">
            <a:off x="2742840" y="3429000"/>
            <a:ext cx="316224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thout Patter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1752480"/>
            <a:ext cx="33908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th Pattern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 rot="21531000">
            <a:off x="4648320" y="4800240"/>
            <a:ext cx="3657600" cy="1146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Down">
              <a:avLst>
                <a:gd name="adj" fmla="val 68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Impact"/>
              </a:rPr>
              <a:t>Let there be L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Patterns in CS1/CS2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0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owlnet.rice.edu/~comp21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cs15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ww.exciton.cs.rice.edu/JavaResou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rithmetic Progress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460160"/>
            <a:ext cx="6363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Inc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val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current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  _inc;     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incremen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IncEval(Integer val, int in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val;   _inc = inc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val = new Integer (_val.intValue () + _in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200400"/>
            <a:ext cx="3962520" cy="685800"/>
          </a:xfrm>
          <a:prstGeom prst="wedgeRectCallout">
            <a:avLst>
              <a:gd name="adj1" fmla="val -47513"/>
              <a:gd name="adj2" fmla="val 10370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ment the curre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ake a new lazy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410080"/>
            <a:ext cx="3352680" cy="762120"/>
          </a:xfrm>
          <a:prstGeom prst="wedgeRectCallout">
            <a:avLst>
              <a:gd name="adj1" fmla="val -73578"/>
              <a:gd name="adj2" fmla="val 2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valu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9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Filter Evaluator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86" name=""/>
          <p:cNvSpPr/>
          <p:nvPr/>
        </p:nvSpPr>
        <p:spPr>
          <a:xfrm>
            <a:off x="140400" y="1522080"/>
            <a:ext cx="8814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azyFilterEval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Integer _factor;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factor to be filtered out.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RStruct _src;  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source for filtering out multiples of _f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azyFilterEval (Integer f, LRStruct s)  { _factor = f;  _src = s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return makeLRS (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src = (LRStruct) _src.execute (SkipLeadMuls.Singleton, _factor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((Boolean)_src.execute (IsNull.Singleton, null)).booleanValue()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return new LRStruct (); }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{   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_src.removeFirst ());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final Integer 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getFactor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return _factor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1752480"/>
            <a:ext cx="4952880" cy="1219320"/>
          </a:xfrm>
          <a:prstGeom prst="wedgeRectCallout">
            <a:avLst>
              <a:gd name="adj1" fmla="val -43398"/>
              <a:gd name="adj2" fmla="val 8854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ctive and base case are iden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need to create a filt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200400"/>
            <a:ext cx="4800600" cy="914400"/>
          </a:xfrm>
          <a:prstGeom prst="wedgeRectCallout">
            <a:avLst>
              <a:gd name="adj1" fmla="val -39486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source ends up emp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empty lis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3809880"/>
            <a:ext cx="4648320" cy="1143000"/>
          </a:xfrm>
          <a:prstGeom prst="wedgeRectCallout">
            <a:avLst>
              <a:gd name="adj1" fmla="val -39685"/>
              <a:gd name="adj2" fmla="val 74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move first from the sourc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d return a new laz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at value as its fi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895480"/>
            <a:ext cx="4114800" cy="914400"/>
          </a:xfrm>
          <a:prstGeom prst="wedgeRectCallout">
            <a:avLst>
              <a:gd name="adj1" fmla="val -46064"/>
              <a:gd name="adj2" fmla="val 10277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ip all leading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actor in the source li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7" dur="1" fill="hold"/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What is a List of Primes Anyway?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cedural:  Sieve of Erastoth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larative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 list with a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eve List”:  A non-null list whe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a “Sieve l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th no multiples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r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first is the next grea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n-multip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8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 List of Primes 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zy Sieve implement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n rest is requested, a Sieve list must return a list guarante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to contain any multiples of firs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ieve evaluator needs to hold a lazy filter evalu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124640" y="1814040"/>
            <a:ext cx="7173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 Sieve list whose first element equals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 the list of pr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initial list = all integ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List’s R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17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prime = filtered list’s fir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lter evaluator = a new one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 = current pr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 = rest of old filter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turn a new lazy l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5334120"/>
            <a:ext cx="754380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1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 Black"/>
              </a:rPr>
              <a:t>Guarantee:  Rest has no multiples of fir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cc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451800" y="167544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ieve evaluator’s nextLRS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280" y="1674720"/>
            <a:ext cx="8344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blic class LazySieveE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tends ALazyEval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Eval lazyFilter;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// to filter out multiples of pr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azySieveEval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two = new Integer (2);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// first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RStruct src = (new LazyIncEval (two, 1)).makeLRS 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two, src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ext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prime = (Integer)lazyFilter.nextLRS ().getFirst 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zyFilter = new LazyFilterEval (prime, lazyFilter.makeLRS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LRStruc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akeLRS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makeLazyL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zyFilter.getFactor ()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Sieve of Eratosthenes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438280"/>
            <a:ext cx="3505320" cy="381240"/>
          </a:xfrm>
          <a:prstGeom prst="wedgeRectCallout">
            <a:avLst>
              <a:gd name="adj1" fmla="val -38495"/>
              <a:gd name="adj2" fmla="val 173333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of integers &gt;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886200"/>
            <a:ext cx="4876560" cy="457200"/>
          </a:xfrm>
          <a:prstGeom prst="wedgeRectCallout">
            <a:avLst>
              <a:gd name="adj1" fmla="val -44074"/>
              <a:gd name="adj2" fmla="val 219444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the next prime a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3809880"/>
            <a:ext cx="4724280" cy="762120"/>
          </a:xfrm>
          <a:prstGeom prst="wedgeRectCallout">
            <a:avLst>
              <a:gd name="adj1" fmla="val -44421"/>
              <a:gd name="adj2" fmla="val 80000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filter strategy to filter the n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 from the old filtered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334120"/>
            <a:ext cx="4800600" cy="457200"/>
          </a:xfrm>
          <a:prstGeom prst="wedgeRectCallout">
            <a:avLst>
              <a:gd name="adj1" fmla="val -46361"/>
              <a:gd name="adj2" fmla="val 9166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list with current prime as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362320"/>
            <a:ext cx="5029200" cy="533160"/>
          </a:xfrm>
          <a:prstGeom prst="wedgeRectCallout">
            <a:avLst>
              <a:gd name="adj1" fmla="val -45013"/>
              <a:gd name="adj2" fmla="val 176189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ter out all multiples of 2 from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86200"/>
            <a:ext cx="2819520" cy="457200"/>
          </a:xfrm>
          <a:prstGeom prst="wedgeRectCallout">
            <a:avLst>
              <a:gd name="adj1" fmla="val -40203"/>
              <a:gd name="adj2" fmla="val 8611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the next pr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9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knowledgme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87" name=""/>
          <p:cNvSpPr/>
          <p:nvPr/>
        </p:nvSpPr>
        <p:spPr>
          <a:xfrm>
            <a:off x="1985400" y="2819520"/>
            <a:ext cx="506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ert “Corky” Cartwright, J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e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352680"/>
            <a:ext cx="3200400" cy="1600200"/>
          </a:xfrm>
          <a:prstGeom prst="cloudCallout">
            <a:avLst>
              <a:gd name="adj1" fmla="val -67412"/>
              <a:gd name="adj2" fmla="val 51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zy evalu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1676520"/>
            <a:ext cx="41907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93" y="2968"/>
                </a:moveTo>
                <a:lnTo>
                  <a:pt x="-1677" y="2968"/>
                </a:lnTo>
                <a:lnTo>
                  <a:pt x="-1677" y="25310"/>
                </a:lnTo>
                <a:lnTo>
                  <a:pt x="3794" y="32023"/>
                </a:ln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me-like Java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Sieve of Eratosth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Acid Tes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2" name=""/>
          <p:cNvSpPr/>
          <p:nvPr/>
        </p:nvSpPr>
        <p:spPr>
          <a:xfrm>
            <a:off x="264600" y="1679760"/>
            <a:ext cx="39344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5" y="5290"/>
                </a:moveTo>
                <a:lnTo>
                  <a:pt x="-463" y="5290"/>
                </a:lnTo>
                <a:lnTo>
                  <a:pt x="-463" y="23143"/>
                </a:lnTo>
                <a:lnTo>
                  <a:pt x="10840" y="41679"/>
                </a:lnTo>
              </a:path>
              <a:path w="21600" h="21600">
                <a:moveTo>
                  <a:pt x="-445" y="0"/>
                </a:moveTo>
                <a:lnTo>
                  <a:pt x="-445" y="21600"/>
                </a:lnTo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existing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143000"/>
            <a:ext cx="3429000" cy="990720"/>
          </a:xfrm>
          <a:prstGeom prst="cloudCallout">
            <a:avLst>
              <a:gd name="adj1" fmla="val -71759"/>
              <a:gd name="adj2" fmla="val 44388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Laz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2246400"/>
            <a:ext cx="8001000" cy="440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4267080"/>
            <a:ext cx="2210040" cy="1447920"/>
          </a:xfrm>
          <a:prstGeom prst="cloudCallout">
            <a:avLst>
              <a:gd name="adj1" fmla="val 49638"/>
              <a:gd name="adj2" fmla="val -217212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1641600"/>
            <a:ext cx="8458200" cy="4659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LRS</a:t>
            </a: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 Framework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6064560"/>
            <a:ext cx="47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4840" y="3745440"/>
            <a:ext cx="3568680" cy="398880"/>
          </a:xfrm>
          <a:prstGeom prst="borderCallout2">
            <a:avLst>
              <a:gd name="adj1" fmla="val 18750"/>
              <a:gd name="adj2" fmla="val -8333"/>
              <a:gd name="adj3" fmla="val 27069"/>
              <a:gd name="adj4" fmla="val -4972"/>
              <a:gd name="adj5" fmla="val -61856"/>
              <a:gd name="adj6" fmla="val -5282"/>
            </a:avLst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.execute (algo, input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0440" y="4624920"/>
            <a:ext cx="335520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3" y="5847"/>
                </a:moveTo>
                <a:lnTo>
                  <a:pt x="22163" y="5847"/>
                </a:lnTo>
                <a:lnTo>
                  <a:pt x="22163" y="34268"/>
                </a:lnTo>
                <a:lnTo>
                  <a:pt x="13200" y="65969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4419720" cy="457200"/>
          </a:xfrm>
          <a:prstGeom prst="wedgeRoundRectCallout">
            <a:avLst>
              <a:gd name="adj1" fmla="val 3199"/>
              <a:gd name="adj2" fmla="val 11388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ll requests to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800600" cy="145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10200" y="4050000"/>
            <a:ext cx="3809520" cy="39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1" y="5847"/>
                </a:moveTo>
                <a:lnTo>
                  <a:pt x="22641" y="5847"/>
                </a:lnTo>
                <a:lnTo>
                  <a:pt x="22641" y="-19083"/>
                </a:lnTo>
                <a:lnTo>
                  <a:pt x="15081" y="-47485"/>
                </a:lnTo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go.nonNullCase (owner, inpu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1676520"/>
            <a:ext cx="3276720" cy="10666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e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962520"/>
            <a:ext cx="2971800" cy="1295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tor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Lazy Evaluatio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lay computation of rest until it is needed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ept all requests involving 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 what is needed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what h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ot ye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een evalu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tercept request at the st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315200" cy="94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180600">
            <a:off x="914040" y="4723920"/>
            <a:ext cx="1433520" cy="10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val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915400" cy="1990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4162680" cy="1924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971800" y="4964040"/>
            <a:ext cx="472428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48" y="2912"/>
                </a:moveTo>
                <a:lnTo>
                  <a:pt x="22725" y="2912"/>
                </a:lnTo>
                <a:lnTo>
                  <a:pt x="22725" y="-19011"/>
                </a:lnTo>
                <a:lnTo>
                  <a:pt x="21338" y="-23257"/>
                </a:lnTo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eval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nnState.getRest(own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9600" y="601884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change to existing code!  No recompilation i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04920"/>
            <a:ext cx="6934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Decorator Pattern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2036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Evaluation Strateg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52280"/>
            <a:ext cx="3886200" cy="3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7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ecompilation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20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343400"/>
            <a:ext cx="4114800" cy="158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76920" y="3809880"/>
            <a:ext cx="1904760" cy="2286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3626280"/>
            <a:ext cx="3962160" cy="3231720"/>
            <a:chOff x="4876920" y="3626280"/>
            <a:chExt cx="3962160" cy="3231720"/>
          </a:xfrm>
        </p:grpSpPr>
        <p:grpSp>
          <p:nvGrpSpPr>
            <p:cNvPr id="124" name=""/>
            <p:cNvGrpSpPr/>
            <p:nvPr/>
          </p:nvGrpSpPr>
          <p:grpSpPr>
            <a:xfrm>
              <a:off x="7027560" y="4628160"/>
              <a:ext cx="1811520" cy="2229840"/>
              <a:chOff x="7027560" y="4628160"/>
              <a:chExt cx="1811520" cy="222984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7617240" y="4472640"/>
                <a:ext cx="304560" cy="1795320"/>
              </a:xfrm>
              <a:custGeom>
                <a:avLst/>
                <a:gdLst>
                  <a:gd name="textAreaLeft" fmla="*/ 0 w 304560"/>
                  <a:gd name="textAreaRight" fmla="*/ 109800 w 304560"/>
                  <a:gd name="textAreaTop" fmla="*/ 46800 h 1795320"/>
                  <a:gd name="textAreaBottom" fmla="*/ 1748520 h 179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7543800" y="5086440"/>
                <a:ext cx="1295280" cy="1771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SlantUp">
                  <a:avLst>
                    <a:gd name="adj" fmla="val 4623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strateg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cc"/>
                    </a:solidFill>
                    <a:latin typeface="Arial Black"/>
                  </a:rPr>
                  <a:t>pattern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cc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76920" y="3626280"/>
              <a:ext cx="2238120" cy="2298240"/>
              <a:chOff x="4876920" y="3626280"/>
              <a:chExt cx="2238120" cy="2298240"/>
            </a:xfrm>
          </p:grpSpPr>
          <p:pic>
            <p:nvPicPr>
              <p:cNvPr id="12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4572000"/>
                <a:ext cx="2238120" cy="135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876920" y="3626280"/>
                <a:ext cx="1938240" cy="520200"/>
              </a:xfrm>
              <a:prstGeom prst="rect">
                <a:avLst/>
              </a:prstGeom>
              <a:solidFill>
                <a:srgbClr val="800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ffff"/>
                    </a:solidFill>
                    <a:latin typeface="Arial"/>
                  </a:rPr>
                  <a:t>-lazyEval: ALazyEv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2209680" y="5835960"/>
            <a:ext cx="47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morphism directs control f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840" y="58644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Run animation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5335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How do I make a Lazy Li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3200" y="2590920"/>
            <a:ext cx="90108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29400" y="190512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648320" y="3352680"/>
            <a:ext cx="2152440" cy="21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447920" y="2590920"/>
            <a:ext cx="1981080" cy="380880"/>
          </a:xfrm>
          <a:prstGeom prst="wedgeRoundRectCallout">
            <a:avLst>
              <a:gd name="adj1" fmla="val 105527"/>
              <a:gd name="adj2" fmla="val 144583"/>
              <a:gd name="adj3" fmla="val 1666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y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334120" y="2895480"/>
            <a:ext cx="3247920" cy="219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324480" y="1905120"/>
            <a:ext cx="1247760" cy="1400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638680" y="5781600"/>
            <a:ext cx="3248280" cy="10764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152280" y="1676520"/>
            <a:ext cx="7925040" cy="2124000"/>
            <a:chOff x="152280" y="1676520"/>
            <a:chExt cx="7925040" cy="212400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152280" y="1676520"/>
              <a:ext cx="447696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648320" y="3581280"/>
              <a:ext cx="342900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648320" y="5713920"/>
            <a:ext cx="4190760" cy="307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zyNonNullState (dat Object, lazy: ALazy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57200"/>
            <a:ext cx="7620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Factory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4162320" y="1143000"/>
            <a:ext cx="4981680" cy="1467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3960000" y="-1080"/>
            <a:ext cx="4969080" cy="1067760"/>
            <a:chOff x="3960000" y="-1080"/>
            <a:chExt cx="4969080" cy="1067760"/>
          </a:xfrm>
        </p:grpSpPr>
        <p:sp>
          <p:nvSpPr>
            <p:cNvPr id="148" name=""/>
            <p:cNvSpPr/>
            <p:nvPr/>
          </p:nvSpPr>
          <p:spPr>
            <a:xfrm rot="5400000">
              <a:off x="6197040" y="-609480"/>
              <a:ext cx="380880" cy="2971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c0c0c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00" y="-1080"/>
              <a:ext cx="4969080" cy="703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ute the data, then cal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keLazyLR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o manufacture  a lazy L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191120" y="11430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11430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1080" y="3124080"/>
            <a:ext cx="8962920" cy="3591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Viner Hand ITC"/>
              </a:rPr>
              <a:t>Invariant vs. Variant</a:t>
            </a:r>
            <a:endParaRPr b="1" lang="en-US" sz="4000" spc="-1" strike="noStrike">
              <a:solidFill>
                <a:srgbClr val="0000cc"/>
              </a:solidFill>
              <a:latin typeface="Viner Hand ITC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5029200"/>
            <a:ext cx="222876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7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In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1828800"/>
            <a:ext cx="1600200" cy="8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ar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64864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04:35:30Z</dcterms:created>
  <dc:creator>DXN</dc:creator>
  <dc:description/>
  <dc:language>en-US</dc:language>
  <cp:lastModifiedBy>Stephen Wong</cp:lastModifiedBy>
  <cp:lastPrinted>2000-01-11T06:33:51Z</cp:lastPrinted>
  <dcterms:modified xsi:type="dcterms:W3CDTF">2004-05-29T05:55:39Z</dcterms:modified>
  <cp:revision>173</cp:revision>
  <dc:subject/>
  <dc:title>Design Patterns for Lazy Evaluation</dc:title>
</cp:coreProperties>
</file>